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Gill Sans MT"/>
              </a:rPr>
              <a:t>Click to move the slide</a:t>
            </a: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CB99-5435-4860-B55F-F1D068316A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B664-2C02-472B-A0DB-5DF3331BAD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606B-C4FD-4A43-9D64-BCC5DDD606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7230-3B89-4113-95E1-407E8C9814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BD60-F368-4F4E-ACD6-875BA9C665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3DC6-164D-4A84-A847-865831EC02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33E-2035-4510-A221-D4436D4C78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411A-C6FB-45F1-86D8-8855ED9E18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D61-B0AA-4574-976D-7F73BECAE0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ACF1-51A1-4E33-8012-84E962EDD7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CAE0-F37E-4C9B-AB56-41299B0CDA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733E-067F-4744-A250-0E6FC63130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AF5-84A8-4535-8CDB-BDF4194AFB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4C6-BACF-4FD4-9AC6-1D2663A8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D0C-7337-4E18-8F4D-6740C80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096-2ADD-4E62-AD1D-8B090BBC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319-5E71-4E6F-9700-98D3CAF1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9E8-2070-4B48-A049-C31B2A39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BD5C-2BF5-4130-9BD1-CACBEC26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8A84-EA00-4D9B-A005-B42D743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F602-29B3-4BCC-BEDB-84534535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3DA9-0A92-4BF9-8FD4-A2CFB10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2196-8A3E-4C37-A4E0-185148F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1F8-6EF4-49A1-BB99-84D12F3B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2904-7ABC-4480-9E87-AE94DCA7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45C5-FB30-4EC4-AC96-752CBEDE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1A70-EC3C-4DD5-A4AF-94A9163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3EDB-580E-42DF-B161-AD112284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B2CB-6904-44C6-88A8-3B5266A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5D5-1C32-43AA-879D-2C9810F9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EC00-4A61-4976-83A2-87F3A1B8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850D-FB93-42FD-A5A3-2346AC4F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FAD9-362D-4BA4-85A2-6EDA1F9F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78ED-9C30-4492-B1D3-52B6335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B60-86D4-4248-8596-8762F8BB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8EB2-2F52-4DDE-B8ED-B6C09FF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B602A-018A-4E72-AF17-92B0B45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4624-134D-4E63-BD53-5A9C0C4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364B-5B8C-456C-ABD1-EB4B1A9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0E7E-0F75-4AA7-9D78-4F94DB39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BF4D-84F4-454E-865F-5F820F3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EC99-2EF5-4FC6-9A72-D854043E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C482-45BC-4B79-BBCB-A3080263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D478-87B4-454D-92AD-CBC57B9C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A90-508B-40C9-8C0D-21A0692A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85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F64-3C38-4679-8923-07F9217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87A-EE24-472F-82D0-FC4900F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B08-F655-49DA-88B2-B1E2B99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6DA-B757-437A-AB22-B7520202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6480"/>
            <a:ext cx="9162720" cy="10382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67160" y="-22320"/>
            <a:ext cx="4762440" cy="100980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0DED-B3A6-4138-91DC-A1FFD911BF2A}" type="slidenum">
              <a:rPr b="0" lang="en-US" sz="1200" spc="-1" strike="noStrike">
                <a:solidFill>
                  <a:srgbClr val="045c75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17440"/>
            <a:ext cx="9181080" cy="450720"/>
            <a:chOff x="-19080" y="217440"/>
            <a:chExt cx="9181080" cy="45072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17440"/>
              <a:ext cx="9163080" cy="450720"/>
              <a:chOff x="-19080" y="217440"/>
              <a:chExt cx="9163080" cy="45072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217440"/>
                <a:ext cx="915048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49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2640"/>
              <a:ext cx="9181080" cy="403560"/>
              <a:chOff x="-19080" y="242640"/>
              <a:chExt cx="9181080" cy="40356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13320" y="242640"/>
                <a:ext cx="9175320" cy="4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475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Espace réservé du contenu 2"/>
          <p:cNvSpPr/>
          <p:nvPr/>
        </p:nvSpPr>
        <p:spPr>
          <a:xfrm>
            <a:off x="2452680" y="-19080"/>
            <a:ext cx="667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Espace réservé du contenu 2"/>
          <p:cNvSpPr/>
          <p:nvPr/>
        </p:nvSpPr>
        <p:spPr>
          <a:xfrm>
            <a:off x="0" y="101520"/>
            <a:ext cx="1515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rme libre 6"/>
          <p:cNvSpPr/>
          <p:nvPr/>
        </p:nvSpPr>
        <p:spPr>
          <a:xfrm>
            <a:off x="-9360" y="6480"/>
            <a:ext cx="9162720" cy="10382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rme libre 7"/>
          <p:cNvSpPr/>
          <p:nvPr/>
        </p:nvSpPr>
        <p:spPr>
          <a:xfrm>
            <a:off x="4367160" y="-22320"/>
            <a:ext cx="4762440" cy="100980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e 1"/>
          <p:cNvGrpSpPr/>
          <p:nvPr/>
        </p:nvGrpSpPr>
        <p:grpSpPr>
          <a:xfrm>
            <a:off x="-19080" y="217440"/>
            <a:ext cx="9181080" cy="450720"/>
            <a:chOff x="-19080" y="217440"/>
            <a:chExt cx="9181080" cy="450720"/>
          </a:xfrm>
        </p:grpSpPr>
        <p:grpSp>
          <p:nvGrpSpPr>
            <p:cNvPr id="55" name="Forme libre 11"/>
            <p:cNvGrpSpPr/>
            <p:nvPr/>
          </p:nvGrpSpPr>
          <p:grpSpPr>
            <a:xfrm>
              <a:off x="-19080" y="217440"/>
              <a:ext cx="9163080" cy="450720"/>
              <a:chOff x="-19080" y="217440"/>
              <a:chExt cx="9163080" cy="450720"/>
            </a:xfrm>
          </p:grpSpPr>
          <p:pic>
            <p:nvPicPr>
              <p:cNvPr id="56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217440"/>
                <a:ext cx="915048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49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orme libre 12"/>
            <p:cNvGrpSpPr/>
            <p:nvPr/>
          </p:nvGrpSpPr>
          <p:grpSpPr>
            <a:xfrm>
              <a:off x="-19080" y="242640"/>
              <a:ext cx="9181080" cy="403560"/>
              <a:chOff x="-19080" y="242640"/>
              <a:chExt cx="9181080" cy="403560"/>
            </a:xfrm>
          </p:grpSpPr>
          <p:pic>
            <p:nvPicPr>
              <p:cNvPr id="59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13320" y="242640"/>
                <a:ext cx="9175320" cy="4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5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Espace réservé du contenu 2"/>
          <p:cNvSpPr/>
          <p:nvPr/>
        </p:nvSpPr>
        <p:spPr>
          <a:xfrm>
            <a:off x="2452680" y="-19080"/>
            <a:ext cx="667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contenu 2"/>
          <p:cNvSpPr/>
          <p:nvPr/>
        </p:nvSpPr>
        <p:spPr>
          <a:xfrm>
            <a:off x="0" y="101520"/>
            <a:ext cx="1515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G92"/>
          <p:cNvPicPr/>
          <p:nvPr/>
        </p:nvPicPr>
        <p:blipFill>
          <a:blip r:embed="rId4"/>
          <a:stretch/>
        </p:blipFill>
        <p:spPr>
          <a:xfrm>
            <a:off x="8361360" y="6372360"/>
            <a:ext cx="638280" cy="412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rme libre 6"/>
          <p:cNvSpPr/>
          <p:nvPr/>
        </p:nvSpPr>
        <p:spPr>
          <a:xfrm>
            <a:off x="-9360" y="6480"/>
            <a:ext cx="9162720" cy="10382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rme libre 7"/>
          <p:cNvSpPr/>
          <p:nvPr/>
        </p:nvSpPr>
        <p:spPr>
          <a:xfrm>
            <a:off x="4367160" y="-22320"/>
            <a:ext cx="4762440" cy="100980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e 1"/>
          <p:cNvGrpSpPr/>
          <p:nvPr/>
        </p:nvGrpSpPr>
        <p:grpSpPr>
          <a:xfrm>
            <a:off x="-19080" y="217440"/>
            <a:ext cx="9181080" cy="450720"/>
            <a:chOff x="-19080" y="217440"/>
            <a:chExt cx="9181080" cy="450720"/>
          </a:xfrm>
        </p:grpSpPr>
        <p:grpSp>
          <p:nvGrpSpPr>
            <p:cNvPr id="105" name="Forme libre 11"/>
            <p:cNvGrpSpPr/>
            <p:nvPr/>
          </p:nvGrpSpPr>
          <p:grpSpPr>
            <a:xfrm>
              <a:off x="-19080" y="217440"/>
              <a:ext cx="9163080" cy="450720"/>
              <a:chOff x="-19080" y="217440"/>
              <a:chExt cx="9163080" cy="450720"/>
            </a:xfrm>
          </p:grpSpPr>
          <p:pic>
            <p:nvPicPr>
              <p:cNvPr id="106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217440"/>
                <a:ext cx="915048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49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orme libre 12"/>
            <p:cNvGrpSpPr/>
            <p:nvPr/>
          </p:nvGrpSpPr>
          <p:grpSpPr>
            <a:xfrm>
              <a:off x="-19080" y="242640"/>
              <a:ext cx="9181080" cy="403560"/>
              <a:chOff x="-19080" y="242640"/>
              <a:chExt cx="9181080" cy="403560"/>
            </a:xfrm>
          </p:grpSpPr>
          <p:pic>
            <p:nvPicPr>
              <p:cNvPr id="109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13320" y="242640"/>
                <a:ext cx="9175320" cy="4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475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Espace réservé du contenu 2"/>
          <p:cNvSpPr/>
          <p:nvPr/>
        </p:nvSpPr>
        <p:spPr>
          <a:xfrm>
            <a:off x="2452680" y="-19080"/>
            <a:ext cx="667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contenu 2"/>
          <p:cNvSpPr/>
          <p:nvPr/>
        </p:nvSpPr>
        <p:spPr>
          <a:xfrm>
            <a:off x="0" y="101520"/>
            <a:ext cx="1515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gner et arrondir un rectangle à un seul coin 14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riangle rectangle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rme libre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rme libre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8C66-58D4-4BB7-BF5E-2D9E1E3E87CD}" type="slidenum">
              <a:rPr b="0" lang="en-US" sz="1200" spc="-1" strike="noStrike">
                <a:solidFill>
                  <a:srgbClr val="045c75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rme libre 6"/>
          <p:cNvSpPr/>
          <p:nvPr/>
        </p:nvSpPr>
        <p:spPr>
          <a:xfrm>
            <a:off x="-9360" y="6480"/>
            <a:ext cx="9162720" cy="103824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rme libre 7"/>
          <p:cNvSpPr/>
          <p:nvPr/>
        </p:nvSpPr>
        <p:spPr>
          <a:xfrm>
            <a:off x="4367160" y="-22320"/>
            <a:ext cx="4762440" cy="100980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e 1"/>
          <p:cNvGrpSpPr/>
          <p:nvPr/>
        </p:nvGrpSpPr>
        <p:grpSpPr>
          <a:xfrm>
            <a:off x="-19080" y="217440"/>
            <a:ext cx="9181080" cy="450720"/>
            <a:chOff x="-19080" y="217440"/>
            <a:chExt cx="9181080" cy="450720"/>
          </a:xfrm>
        </p:grpSpPr>
        <p:grpSp>
          <p:nvGrpSpPr>
            <p:cNvPr id="161" name="Forme libre 11"/>
            <p:cNvGrpSpPr/>
            <p:nvPr/>
          </p:nvGrpSpPr>
          <p:grpSpPr>
            <a:xfrm>
              <a:off x="-19080" y="217440"/>
              <a:ext cx="9163080" cy="450720"/>
              <a:chOff x="-19080" y="217440"/>
              <a:chExt cx="9163080" cy="450720"/>
            </a:xfrm>
          </p:grpSpPr>
          <p:pic>
            <p:nvPicPr>
              <p:cNvPr id="162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6480" y="217440"/>
                <a:ext cx="9150480" cy="45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449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Forme libre 12"/>
            <p:cNvGrpSpPr/>
            <p:nvPr/>
          </p:nvGrpSpPr>
          <p:grpSpPr>
            <a:xfrm>
              <a:off x="-19080" y="242640"/>
              <a:ext cx="9181080" cy="403560"/>
              <a:chOff x="-19080" y="242640"/>
              <a:chExt cx="9181080" cy="403560"/>
            </a:xfrm>
          </p:grpSpPr>
          <p:pic>
            <p:nvPicPr>
              <p:cNvPr id="165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13320" y="242640"/>
                <a:ext cx="9175320" cy="4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 rot="21435600">
                <a:off x="-18720" y="475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Espace réservé du contenu 2"/>
          <p:cNvSpPr/>
          <p:nvPr/>
        </p:nvSpPr>
        <p:spPr>
          <a:xfrm>
            <a:off x="2452680" y="-19080"/>
            <a:ext cx="6676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contenu 2"/>
          <p:cNvSpPr/>
          <p:nvPr/>
        </p:nvSpPr>
        <p:spPr>
          <a:xfrm>
            <a:off x="0" y="101520"/>
            <a:ext cx="1515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Image 14" descr="rain window.jpg"/>
          <p:cNvPicPr/>
          <p:nvPr/>
        </p:nvPicPr>
        <p:blipFill>
          <a:blip r:embed="rId4"/>
          <a:stretch/>
        </p:blipFill>
        <p:spPr>
          <a:xfrm>
            <a:off x="2792520" y="4254480"/>
            <a:ext cx="3260520" cy="2554200"/>
          </a:xfrm>
          <a:prstGeom prst="rect">
            <a:avLst/>
          </a:prstGeom>
          <a:ln w="0">
            <a:noFill/>
          </a:ln>
        </p:spPr>
      </p:pic>
      <p:pic>
        <p:nvPicPr>
          <p:cNvPr id="170" name="Image 14" descr="CG92-2.gif"/>
          <p:cNvPicPr/>
          <p:nvPr/>
        </p:nvPicPr>
        <p:blipFill>
          <a:blip r:embed="rId5"/>
          <a:stretch/>
        </p:blipFill>
        <p:spPr>
          <a:xfrm>
            <a:off x="3753000" y="0"/>
            <a:ext cx="1638000" cy="1638360"/>
          </a:xfrm>
          <a:prstGeom prst="rect">
            <a:avLst/>
          </a:prstGeom>
          <a:ln w="0">
            <a:noFill/>
          </a:ln>
        </p:spPr>
      </p:pic>
      <p:pic>
        <p:nvPicPr>
          <p:cNvPr id="171" name="Image 18" descr="justice_scales2.jpg"/>
          <p:cNvPicPr/>
          <p:nvPr/>
        </p:nvPicPr>
        <p:blipFill>
          <a:blip r:embed="rId6"/>
          <a:stretch/>
        </p:blipFill>
        <p:spPr>
          <a:xfrm>
            <a:off x="2682720" y="3949560"/>
            <a:ext cx="1524240" cy="1865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E6F6-BB0D-484C-8345-51325A4043DC}" type="slidenum">
              <a:rPr b="0" lang="en-US" sz="1200" spc="-1" strike="noStrike">
                <a:solidFill>
                  <a:srgbClr val="045c75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1" descr=""/>
          <p:cNvPicPr/>
          <p:nvPr/>
        </p:nvPicPr>
        <p:blipFill>
          <a:blip r:embed="rId1">
            <a:alphaModFix amt="58000"/>
          </a:blip>
          <a:stretch/>
        </p:blipFill>
        <p:spPr>
          <a:xfrm>
            <a:off x="3036960" y="3386160"/>
            <a:ext cx="2477880" cy="2478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419040" y="5937120"/>
            <a:ext cx="5302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ristian ROUX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eil Général des Hauts-de-Se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castle from NMS"/>
          <p:cNvPicPr/>
          <p:nvPr/>
        </p:nvPicPr>
        <p:blipFill>
          <a:blip r:embed="rId2"/>
          <a:stretch/>
        </p:blipFill>
        <p:spPr>
          <a:xfrm>
            <a:off x="-14400" y="-14400"/>
            <a:ext cx="2887920" cy="1003320"/>
          </a:xfrm>
          <a:prstGeom prst="rect">
            <a:avLst/>
          </a:prstGeom>
          <a:ln w="0">
            <a:noFill/>
          </a:ln>
        </p:spPr>
      </p:pic>
      <p:sp>
        <p:nvSpPr>
          <p:cNvPr id="223" name="Espace réservé du contenu 2"/>
          <p:cNvSpPr/>
          <p:nvPr/>
        </p:nvSpPr>
        <p:spPr>
          <a:xfrm>
            <a:off x="7199280" y="3672000"/>
            <a:ext cx="1515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7f7f7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CG92"/>
          <p:cNvPicPr/>
          <p:nvPr/>
        </p:nvPicPr>
        <p:blipFill>
          <a:blip r:embed="rId3"/>
          <a:stretch/>
        </p:blipFill>
        <p:spPr>
          <a:xfrm>
            <a:off x="7529400" y="5856120"/>
            <a:ext cx="1233720" cy="797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2"/>
          <p:cNvSpPr/>
          <p:nvPr/>
        </p:nvSpPr>
        <p:spPr>
          <a:xfrm>
            <a:off x="3033720" y="3381480"/>
            <a:ext cx="2481120" cy="2482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4160" y="1504800"/>
            <a:ext cx="865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La récupération des eaux pluviales pour l’arrosag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f6fc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Quel dimensionn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f6fc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</a:rPr>
              <a:t>Quel impact sur le réseau d’assainiss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634760" y="545760"/>
            <a:ext cx="7334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Résulta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Gill Sans MT"/>
              </a:rPr>
              <a:t>B) Impact d’une généralisation des cuves sur un lotiss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Espace réservé du contenu 2"/>
          <p:cNvSpPr/>
          <p:nvPr/>
        </p:nvSpPr>
        <p:spPr>
          <a:xfrm>
            <a:off x="1392120" y="2354400"/>
            <a:ext cx="585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u contenu 2"/>
          <p:cNvSpPr/>
          <p:nvPr/>
        </p:nvSpPr>
        <p:spPr>
          <a:xfrm>
            <a:off x="100080" y="2063880"/>
            <a:ext cx="46148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Gill Sans MT"/>
              </a:rPr>
              <a:t>Secteurs résidentiels Hauts-de-Sein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7f7f7f"/>
                </a:solidFill>
                <a:latin typeface="Gill Sans MT"/>
              </a:rPr>
              <a:t>22% de bâ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7f7f7f"/>
                </a:solidFill>
                <a:latin typeface="Gill Sans MT"/>
              </a:rPr>
              <a:t>41 % d’espaces 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7f7f7f"/>
                </a:solidFill>
                <a:latin typeface="Gill Sans MT"/>
              </a:rPr>
              <a:t>37 % d’espaces au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contenu 2"/>
          <p:cNvSpPr/>
          <p:nvPr/>
        </p:nvSpPr>
        <p:spPr>
          <a:xfrm>
            <a:off x="5253120" y="2709720"/>
            <a:ext cx="3601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tio toiture/jardin </a:t>
            </a:r>
            <a:r>
              <a:rPr b="0" lang="en-US" sz="2000" spc="-1" strike="noStrike">
                <a:solidFill>
                  <a:srgbClr val="b9193b"/>
                </a:solidFill>
                <a:latin typeface="Trebuchet MS"/>
              </a:rPr>
              <a:t>~</a:t>
            </a:r>
            <a:r>
              <a:rPr b="0" lang="en-US" sz="2000" spc="-1" strike="noStrike">
                <a:solidFill>
                  <a:srgbClr val="b9193b"/>
                </a:solidFill>
                <a:latin typeface="Gill Sans MT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ccolade fermante 15"/>
          <p:cNvSpPr/>
          <p:nvPr/>
        </p:nvSpPr>
        <p:spPr>
          <a:xfrm>
            <a:off x="4619520" y="2368440"/>
            <a:ext cx="550800" cy="986040"/>
          </a:xfrm>
          <a:custGeom>
            <a:avLst/>
            <a:gdLst>
              <a:gd name="textAreaLeft" fmla="*/ 0 w 550800"/>
              <a:gd name="textAreaRight" fmla="*/ 198720 w 550800"/>
              <a:gd name="textAreaTop" fmla="*/ 14040 h 986040"/>
              <a:gd name="textAreaBottom" fmla="*/ 972000 h 9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6"/>
                </a:cubicBezTo>
                <a:lnTo>
                  <a:pt x="10800" y="9794"/>
                </a:lnTo>
                <a:cubicBezTo>
                  <a:pt x="10800" y="10297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6"/>
                </a:cubicBezTo>
                <a:lnTo>
                  <a:pt x="10800" y="20594"/>
                </a:lnTo>
                <a:cubicBezTo>
                  <a:pt x="10800" y="2109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Espace réservé du contenu 2"/>
          <p:cNvSpPr/>
          <p:nvPr/>
        </p:nvSpPr>
        <p:spPr>
          <a:xfrm>
            <a:off x="165240" y="3726000"/>
            <a:ext cx="6359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Hypothèses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22% de bâ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41 % d’espace 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7 % d’espaces au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ccolade fermante 19"/>
          <p:cNvSpPr/>
          <p:nvPr/>
        </p:nvSpPr>
        <p:spPr>
          <a:xfrm>
            <a:off x="3228840" y="3970440"/>
            <a:ext cx="552600" cy="70308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703080"/>
              <a:gd name="textAreaBottom" fmla="*/ 68868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7"/>
                  <a:pt x="10800" y="1414"/>
                </a:cubicBezTo>
                <a:lnTo>
                  <a:pt x="10800" y="9386"/>
                </a:lnTo>
                <a:cubicBezTo>
                  <a:pt x="10800" y="10093"/>
                  <a:pt x="16200" y="10800"/>
                  <a:pt x="21600" y="10800"/>
                </a:cubicBezTo>
                <a:cubicBezTo>
                  <a:pt x="16200" y="10800"/>
                  <a:pt x="10800" y="11507"/>
                  <a:pt x="10800" y="12214"/>
                </a:cubicBezTo>
                <a:lnTo>
                  <a:pt x="10800" y="20186"/>
                </a:lnTo>
                <a:cubicBezTo>
                  <a:pt x="10800" y="208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contenu 2"/>
          <p:cNvSpPr/>
          <p:nvPr/>
        </p:nvSpPr>
        <p:spPr>
          <a:xfrm>
            <a:off x="4119480" y="4140360"/>
            <a:ext cx="434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ollecte des eaux pluv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Connecteur droit avec flèche 22"/>
          <p:cNvCxnSpPr/>
          <p:nvPr/>
        </p:nvCxnSpPr>
        <p:spPr>
          <a:xfrm>
            <a:off x="3260880" y="5167080"/>
            <a:ext cx="536760" cy="1080"/>
          </a:xfrm>
          <a:prstGeom prst="straightConnector1">
            <a:avLst/>
          </a:prstGeom>
          <a:ln w="9360">
            <a:solidFill>
              <a:srgbClr val="0070d8"/>
            </a:solidFill>
            <a:miter/>
            <a:tailEnd len="med" type="triangle" w="med"/>
          </a:ln>
        </p:spPr>
      </p:cxnSp>
      <p:sp>
        <p:nvSpPr>
          <p:cNvPr id="332" name="Espace réservé du contenu 2"/>
          <p:cNvSpPr/>
          <p:nvPr/>
        </p:nvSpPr>
        <p:spPr>
          <a:xfrm>
            <a:off x="4113360" y="4905360"/>
            <a:ext cx="4671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uissellement avec 2mm de pertes init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space réservé du contenu 2"/>
          <p:cNvSpPr/>
          <p:nvPr/>
        </p:nvSpPr>
        <p:spPr>
          <a:xfrm>
            <a:off x="920880" y="5838840"/>
            <a:ext cx="7834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b9193b"/>
                </a:solidFill>
                <a:latin typeface="Gill Sans MT"/>
              </a:rPr>
              <a:t>Ruissellement toiture </a:t>
            </a:r>
            <a:r>
              <a:rPr b="0" lang="en-GB" sz="2600" spc="-1" strike="noStrike">
                <a:solidFill>
                  <a:srgbClr val="b9193b"/>
                </a:solidFill>
                <a:latin typeface="Trebuchet MS"/>
              </a:rPr>
              <a:t>~48</a:t>
            </a:r>
            <a:r>
              <a:rPr b="0" lang="en-GB" sz="2600" spc="-1" strike="noStrike">
                <a:solidFill>
                  <a:srgbClr val="b9193b"/>
                </a:solidFill>
                <a:latin typeface="Gill Sans MT"/>
              </a:rPr>
              <a:t> % ruissellement 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634760" y="545760"/>
            <a:ext cx="7334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Résulta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Gill Sans MT"/>
              </a:rPr>
              <a:t>B) Impact d’une généralisation des cuves sur un lotiss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2379600" y="2017800"/>
            <a:ext cx="5603760" cy="40640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2968560" y="1847880"/>
            <a:ext cx="50068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193b"/>
                </a:solidFill>
                <a:latin typeface="Gill Sans MT"/>
              </a:rPr>
              <a:t>Taux de rejet (période d’arro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9193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809360" y="952200"/>
            <a:ext cx="7334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5395"/>
                </a:solidFill>
                <a:latin typeface="Gill Sans MT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Espace réservé du contenu 2"/>
          <p:cNvSpPr/>
          <p:nvPr/>
        </p:nvSpPr>
        <p:spPr>
          <a:xfrm>
            <a:off x="179280" y="2071800"/>
            <a:ext cx="889164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esoins de cuves importantes pour atteindre des taux significatifs de recouvrement de la demande en 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ne généralisation des cuves devrait être visible sur les bilans annuels d’apports d’un secteur rés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nalogue à des pertes initiales aléatoires de quelques dixièmes de mm à quelques mm de plu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446120" y="966600"/>
            <a:ext cx="865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76a3"/>
                </a:solidFill>
                <a:latin typeface="Gill Sans MT"/>
              </a:rPr>
              <a:t>Contexte et objectifs de l’étu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Espace réservé du contenu 2"/>
          <p:cNvSpPr/>
          <p:nvPr/>
        </p:nvSpPr>
        <p:spPr>
          <a:xfrm>
            <a:off x="2784600" y="2035080"/>
            <a:ext cx="63594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2 objectif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- réduire les ino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- réduire les rejets au milieu récep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tretch/>
        </p:blipFill>
        <p:spPr>
          <a:xfrm>
            <a:off x="0" y="1909800"/>
            <a:ext cx="2684520" cy="105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2"/>
          <a:stretch/>
        </p:blipFill>
        <p:spPr>
          <a:xfrm>
            <a:off x="1146240" y="3556080"/>
            <a:ext cx="855720" cy="1147680"/>
          </a:xfrm>
          <a:prstGeom prst="rect">
            <a:avLst/>
          </a:prstGeom>
          <a:ln w="0">
            <a:noFill/>
          </a:ln>
        </p:spPr>
      </p:pic>
      <p:sp>
        <p:nvSpPr>
          <p:cNvPr id="231" name="Espace réservé du contenu 2"/>
          <p:cNvSpPr/>
          <p:nvPr/>
        </p:nvSpPr>
        <p:spPr>
          <a:xfrm>
            <a:off x="2104920" y="3654360"/>
            <a:ext cx="48913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ccroître l’utilisation des eaux pluv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 32" descr=""/>
          <p:cNvPicPr/>
          <p:nvPr/>
        </p:nvPicPr>
        <p:blipFill>
          <a:blip r:embed="rId3"/>
          <a:stretch/>
        </p:blipFill>
        <p:spPr>
          <a:xfrm>
            <a:off x="6980400" y="3630600"/>
            <a:ext cx="1285560" cy="96516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22"/>
          <p:cNvGrpSpPr/>
          <p:nvPr/>
        </p:nvGrpSpPr>
        <p:grpSpPr>
          <a:xfrm>
            <a:off x="1378080" y="5094360"/>
            <a:ext cx="450720" cy="1136520"/>
            <a:chOff x="1378080" y="5094360"/>
            <a:chExt cx="450720" cy="1136520"/>
          </a:xfrm>
        </p:grpSpPr>
        <p:grpSp>
          <p:nvGrpSpPr>
            <p:cNvPr id="234" name="Group 27"/>
            <p:cNvGrpSpPr/>
            <p:nvPr/>
          </p:nvGrpSpPr>
          <p:grpSpPr>
            <a:xfrm>
              <a:off x="1378080" y="5289120"/>
              <a:ext cx="393120" cy="941760"/>
              <a:chOff x="1378080" y="5289120"/>
              <a:chExt cx="393120" cy="941760"/>
            </a:xfrm>
          </p:grpSpPr>
          <p:sp>
            <p:nvSpPr>
              <p:cNvPr id="235" name="Freeform 21"/>
              <p:cNvSpPr/>
              <p:nvPr/>
            </p:nvSpPr>
            <p:spPr>
              <a:xfrm>
                <a:off x="1449360" y="5445000"/>
                <a:ext cx="197280" cy="16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2"/>
              <p:cNvSpPr/>
              <p:nvPr/>
            </p:nvSpPr>
            <p:spPr>
              <a:xfrm>
                <a:off x="1589760" y="5289120"/>
                <a:ext cx="175680" cy="36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"/>
              <p:cNvSpPr/>
              <p:nvPr/>
            </p:nvSpPr>
            <p:spPr>
              <a:xfrm>
                <a:off x="1378080" y="5627160"/>
                <a:ext cx="158400" cy="22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"/>
              <p:cNvSpPr/>
              <p:nvPr/>
            </p:nvSpPr>
            <p:spPr>
              <a:xfrm>
                <a:off x="1506600" y="5616720"/>
                <a:ext cx="148320" cy="27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5"/>
              <p:cNvSpPr/>
              <p:nvPr/>
            </p:nvSpPr>
            <p:spPr>
              <a:xfrm>
                <a:off x="1462320" y="5837400"/>
                <a:ext cx="112680" cy="39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6"/>
              <p:cNvSpPr/>
              <p:nvPr/>
            </p:nvSpPr>
            <p:spPr>
              <a:xfrm>
                <a:off x="1585080" y="5837400"/>
                <a:ext cx="186120" cy="33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ZoneTexte 33"/>
            <p:cNvSpPr/>
            <p:nvPr/>
          </p:nvSpPr>
          <p:spPr>
            <a:xfrm>
              <a:off x="1378080" y="509436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Espace réservé du contenu 2"/>
          <p:cNvSpPr/>
          <p:nvPr/>
        </p:nvSpPr>
        <p:spPr>
          <a:xfrm>
            <a:off x="2003400" y="5451480"/>
            <a:ext cx="542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9193b"/>
                </a:solidFill>
                <a:latin typeface="Gill Sans MT"/>
              </a:rPr>
              <a:t>Quel est l’impact potentiel des cuves de récupération d’eau pluviale sur les rejets au réseau d’assainisseme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35120" y="545760"/>
            <a:ext cx="865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Metho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Espace réservé du contenu 2"/>
          <p:cNvSpPr/>
          <p:nvPr/>
        </p:nvSpPr>
        <p:spPr>
          <a:xfrm>
            <a:off x="1652760" y="1033560"/>
            <a:ext cx="585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éveloppement d’un outil de calc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108000" y="1636560"/>
            <a:ext cx="25718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é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ylindre 19"/>
          <p:cNvSpPr/>
          <p:nvPr/>
        </p:nvSpPr>
        <p:spPr>
          <a:xfrm>
            <a:off x="5403960" y="4259160"/>
            <a:ext cx="1255680" cy="103032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Connecteur droit avec flèche 20"/>
          <p:cNvCxnSpPr/>
          <p:nvPr/>
        </p:nvCxnSpPr>
        <p:spPr>
          <a:xfrm flipH="1">
            <a:off x="4885560" y="2216160"/>
            <a:ext cx="2520" cy="475200"/>
          </a:xfrm>
          <a:prstGeom prst="straightConnector1">
            <a:avLst/>
          </a:prstGeom>
          <a:ln w="38160">
            <a:solidFill>
              <a:srgbClr val="0070c0"/>
            </a:solidFill>
            <a:prstDash val="dash"/>
            <a:miter/>
            <a:tailEnd len="med" type="arrow" w="med"/>
          </a:ln>
        </p:spPr>
      </p:cxnSp>
      <p:sp>
        <p:nvSpPr>
          <p:cNvPr id="248" name="Connecteur droit 21"/>
          <p:cNvSpPr/>
          <p:nvPr/>
        </p:nvSpPr>
        <p:spPr>
          <a:xfrm>
            <a:off x="4440240" y="2438280"/>
            <a:ext cx="1424160" cy="1148040"/>
          </a:xfrm>
          <a:prstGeom prst="line">
            <a:avLst/>
          </a:prstGeom>
          <a:ln w="8892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onnecteur droit 22"/>
          <p:cNvSpPr/>
          <p:nvPr/>
        </p:nvSpPr>
        <p:spPr>
          <a:xfrm>
            <a:off x="5863680" y="3586320"/>
            <a:ext cx="21960" cy="1130040"/>
          </a:xfrm>
          <a:prstGeom prst="line">
            <a:avLst/>
          </a:prstGeom>
          <a:ln w="88920">
            <a:solidFill>
              <a:srgbClr val="40404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necteur droit 23"/>
          <p:cNvSpPr/>
          <p:nvPr/>
        </p:nvSpPr>
        <p:spPr>
          <a:xfrm flipH="1" flipV="1">
            <a:off x="6081480" y="3889080"/>
            <a:ext cx="19080" cy="755640"/>
          </a:xfrm>
          <a:prstGeom prst="line">
            <a:avLst/>
          </a:prstGeom>
          <a:ln w="8244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Connecteur droit avec flèche 24"/>
          <p:cNvCxnSpPr/>
          <p:nvPr/>
        </p:nvCxnSpPr>
        <p:spPr>
          <a:xfrm flipV="1">
            <a:off x="6100560" y="3699720"/>
            <a:ext cx="402120" cy="135720"/>
          </a:xfrm>
          <a:prstGeom prst="straightConnector1">
            <a:avLst/>
          </a:prstGeom>
          <a:ln w="8892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252" name="Connecteur droit avec flèche 25"/>
          <p:cNvCxnSpPr/>
          <p:nvPr/>
        </p:nvCxnSpPr>
        <p:spPr>
          <a:xfrm>
            <a:off x="6662520" y="4430880"/>
            <a:ext cx="795960" cy="2160"/>
          </a:xfrm>
          <a:prstGeom prst="straightConnector1">
            <a:avLst/>
          </a:prstGeom>
          <a:ln w="60480">
            <a:solidFill>
              <a:srgbClr val="000000"/>
            </a:solidFill>
            <a:miter/>
            <a:headEnd len="med" type="oval" w="med"/>
            <a:tailEnd len="med" type="stealth" w="med"/>
          </a:ln>
        </p:spPr>
      </p:cxnSp>
      <p:sp>
        <p:nvSpPr>
          <p:cNvPr id="253" name="ZoneTexte 35"/>
          <p:cNvSpPr/>
          <p:nvPr/>
        </p:nvSpPr>
        <p:spPr>
          <a:xfrm flipH="1">
            <a:off x="4742640" y="16444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oneTexte 37"/>
          <p:cNvSpPr/>
          <p:nvPr/>
        </p:nvSpPr>
        <p:spPr>
          <a:xfrm flipH="1">
            <a:off x="5101560" y="243036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 = P -P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39"/>
          <p:cNvSpPr/>
          <p:nvPr/>
        </p:nvSpPr>
        <p:spPr>
          <a:xfrm flipH="1">
            <a:off x="7458120" y="42163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40"/>
          <p:cNvSpPr/>
          <p:nvPr/>
        </p:nvSpPr>
        <p:spPr>
          <a:xfrm flipH="1">
            <a:off x="5814360" y="4645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3743280" y="3216240"/>
            <a:ext cx="1357200" cy="1643040"/>
          </a:xfrm>
          <a:prstGeom prst="rect">
            <a:avLst/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3672000" y="3144960"/>
            <a:ext cx="1428480" cy="17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riangle isocèle 32"/>
          <p:cNvSpPr/>
          <p:nvPr/>
        </p:nvSpPr>
        <p:spPr>
          <a:xfrm>
            <a:off x="3672000" y="2573280"/>
            <a:ext cx="1357200" cy="571680"/>
          </a:xfrm>
          <a:prstGeom prst="triangle">
            <a:avLst>
              <a:gd name="adj" fmla="val 474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08000" y="2208240"/>
            <a:ext cx="4156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issellement (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rtes 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niti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08000" y="2849400"/>
            <a:ext cx="4016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acité de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ckage de la cu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08000" y="3435480"/>
            <a:ext cx="49496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emande en eau du ja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vapo</a:t>
            </a: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ranspiration </a:t>
            </a: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otentielle (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Coefficient cultural 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éserve </a:t>
            </a: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acilement </a:t>
            </a:r>
            <a:r>
              <a:rPr b="1" i="1" lang="en-GB" sz="20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tilisable(RFU</a:t>
            </a:r>
            <a:r>
              <a:rPr b="0" i="1" lang="fr-FR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08000" y="5054760"/>
            <a:ext cx="4201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op-plein de la cu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879480" y="5664240"/>
            <a:ext cx="726264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  </a:t>
            </a:r>
            <a:r>
              <a:rPr b="1" lang="en-GB" sz="2000" spc="-1" strike="noStrike">
                <a:solidFill>
                  <a:srgbClr val="b9193b"/>
                </a:solidFill>
                <a:latin typeface="Gill Sans MT"/>
              </a:rPr>
              <a:t>S  =  R  x Surface toiture /1000 – D x Surface jardin /1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(m</a:t>
            </a:r>
            <a:r>
              <a:rPr b="1" lang="fr-FR" sz="2000" spc="-1" strike="noStrike" baseline="30000">
                <a:solidFill>
                  <a:srgbClr val="b9193b"/>
                </a:solidFill>
                <a:latin typeface="Gill Sans MT"/>
              </a:rPr>
              <a:t>3</a:t>
            </a: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) (mm)      (m²)                 </a:t>
            </a: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	</a:t>
            </a: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(mm)         </a:t>
            </a: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	</a:t>
            </a:r>
            <a:r>
              <a:rPr b="1" lang="fr-FR" sz="2000" spc="-1" strike="noStrike">
                <a:solidFill>
                  <a:srgbClr val="b9193b"/>
                </a:solidFill>
                <a:latin typeface="Gill Sans MT"/>
              </a:rPr>
              <a:t>(m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necteur droit 38"/>
          <p:cNvSpPr/>
          <p:nvPr/>
        </p:nvSpPr>
        <p:spPr>
          <a:xfrm>
            <a:off x="4314960" y="2557440"/>
            <a:ext cx="1143000" cy="87300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ZoneTexte 39"/>
          <p:cNvSpPr/>
          <p:nvPr/>
        </p:nvSpPr>
        <p:spPr>
          <a:xfrm flipH="1">
            <a:off x="6295320" y="343548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P - P – R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"/>
          <p:cNvPicPr/>
          <p:nvPr/>
        </p:nvPicPr>
        <p:blipFill>
          <a:blip r:embed="rId1"/>
          <a:srcRect l="0" t="0" r="0" b="5806"/>
          <a:stretch/>
        </p:blipFill>
        <p:spPr>
          <a:xfrm>
            <a:off x="306360" y="1335240"/>
            <a:ext cx="7327800" cy="5522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9"/>
          <p:cNvSpPr/>
          <p:nvPr/>
        </p:nvSpPr>
        <p:spPr>
          <a:xfrm>
            <a:off x="203040" y="1278000"/>
            <a:ext cx="7417080" cy="558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35120" y="545760"/>
            <a:ext cx="865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Métho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ZoneTexte 15"/>
          <p:cNvSpPr/>
          <p:nvPr/>
        </p:nvSpPr>
        <p:spPr>
          <a:xfrm>
            <a:off x="276120" y="2627280"/>
            <a:ext cx="7285320" cy="1922760"/>
          </a:xfrm>
          <a:prstGeom prst="rect">
            <a:avLst/>
          </a:prstGeom>
          <a:solidFill>
            <a:srgbClr val="ffffff">
              <a:alpha val="57000"/>
            </a:srgbClr>
          </a:solidFill>
          <a:ln w="25560">
            <a:solidFill>
              <a:srgbClr val="5464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6422"/>
                </a:solidFill>
                <a:latin typeface="Gill Sans MT"/>
              </a:rPr>
              <a:t>PRINCIPALE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oneTexte 16"/>
          <p:cNvSpPr/>
          <p:nvPr/>
        </p:nvSpPr>
        <p:spPr>
          <a:xfrm>
            <a:off x="355680" y="3151080"/>
            <a:ext cx="193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6422"/>
                </a:solidFill>
                <a:latin typeface="Gill Sans MT"/>
              </a:rPr>
              <a:t>Surface to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17"/>
          <p:cNvSpPr/>
          <p:nvPr/>
        </p:nvSpPr>
        <p:spPr>
          <a:xfrm>
            <a:off x="347760" y="4022640"/>
            <a:ext cx="1914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46422"/>
                </a:solidFill>
                <a:latin typeface="Gill Sans MT"/>
              </a:rPr>
              <a:t>Surface jar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oneTexte 18"/>
          <p:cNvSpPr/>
          <p:nvPr/>
        </p:nvSpPr>
        <p:spPr>
          <a:xfrm>
            <a:off x="347760" y="3513240"/>
            <a:ext cx="190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46422"/>
                </a:solidFill>
                <a:latin typeface="Gill Sans MT"/>
              </a:rPr>
              <a:t>Volume cu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544920" y="3133800"/>
            <a:ext cx="5416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Surfaces toit et jardin : 50, 100, 150, 200 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736800" y="3578400"/>
            <a:ext cx="540720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Volumes de cuve : 0.2, 0.8, 1.6, 3.2, 5 m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592440" y="4037040"/>
            <a:ext cx="396072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9193b"/>
                </a:solidFill>
                <a:latin typeface="Gill Sans MT"/>
              </a:rPr>
              <a:t>≠ </a:t>
            </a:r>
            <a:r>
              <a:rPr b="0" i="1" lang="en-GB" sz="2000" spc="-1" strike="noStrike">
                <a:solidFill>
                  <a:srgbClr val="b9193b"/>
                </a:solidFill>
                <a:latin typeface="Gill Sans MT"/>
              </a:rPr>
              <a:t>types de sol ; k =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193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3"/>
          <a:stretch/>
        </p:blipFill>
        <p:spPr>
          <a:xfrm>
            <a:off x="2235240" y="3090960"/>
            <a:ext cx="1131840" cy="45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4"/>
          <a:srcRect l="10150" t="28113" r="-107" b="12067"/>
          <a:stretch/>
        </p:blipFill>
        <p:spPr>
          <a:xfrm>
            <a:off x="2349360" y="3635280"/>
            <a:ext cx="946440" cy="260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9" name="Picture 3" descr=""/>
          <p:cNvPicPr/>
          <p:nvPr/>
        </p:nvPicPr>
        <p:blipFill>
          <a:blip r:embed="rId5"/>
          <a:srcRect l="9529" t="12780" r="6600" b="29712"/>
          <a:stretch/>
        </p:blipFill>
        <p:spPr>
          <a:xfrm>
            <a:off x="2349360" y="4108320"/>
            <a:ext cx="949320" cy="200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80" name="Espace réservé du contenu 2"/>
          <p:cNvSpPr/>
          <p:nvPr/>
        </p:nvSpPr>
        <p:spPr>
          <a:xfrm>
            <a:off x="1652760" y="1077840"/>
            <a:ext cx="5851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éveloppement d’un outil de calc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635120" y="545760"/>
            <a:ext cx="865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Métho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Espace réservé du contenu 2"/>
          <p:cNvSpPr/>
          <p:nvPr/>
        </p:nvSpPr>
        <p:spPr>
          <a:xfrm>
            <a:off x="1652760" y="1077840"/>
            <a:ext cx="585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rcRect l="0" t="0" r="0" b="5843"/>
          <a:stretch/>
        </p:blipFill>
        <p:spPr>
          <a:xfrm>
            <a:off x="304920" y="1292400"/>
            <a:ext cx="7389720" cy="5565600"/>
          </a:xfrm>
          <a:prstGeom prst="rect">
            <a:avLst/>
          </a:prstGeom>
          <a:ln w="0">
            <a:noFill/>
          </a:ln>
        </p:spPr>
      </p:pic>
      <p:sp>
        <p:nvSpPr>
          <p:cNvPr id="284" name="Légende encadrée 1 24"/>
          <p:cNvSpPr/>
          <p:nvPr/>
        </p:nvSpPr>
        <p:spPr>
          <a:xfrm>
            <a:off x="222120" y="1320840"/>
            <a:ext cx="7456680" cy="763560"/>
          </a:xfrm>
          <a:prstGeom prst="borderCallout1">
            <a:avLst>
              <a:gd name="adj1" fmla="val 18750"/>
              <a:gd name="adj2" fmla="val -8333"/>
              <a:gd name="adj3" fmla="val 100925"/>
              <a:gd name="adj4" fmla="val 2297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ment d’un outil de calcul jour par jour sur 30 ans de 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rrosage du 1er Avril au 31 oct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égende encadrée 1 26"/>
          <p:cNvSpPr/>
          <p:nvPr/>
        </p:nvSpPr>
        <p:spPr>
          <a:xfrm>
            <a:off x="1274760" y="2365200"/>
            <a:ext cx="582480" cy="524160"/>
          </a:xfrm>
          <a:prstGeom prst="borderCallout1">
            <a:avLst>
              <a:gd name="adj1" fmla="val 18750"/>
              <a:gd name="adj2" fmla="val -8333"/>
              <a:gd name="adj3" fmla="val 168388"/>
              <a:gd name="adj4" fmla="val 35712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égende encadrée 1 29"/>
          <p:cNvSpPr/>
          <p:nvPr/>
        </p:nvSpPr>
        <p:spPr>
          <a:xfrm>
            <a:off x="2036880" y="2308320"/>
            <a:ext cx="793800" cy="588960"/>
          </a:xfrm>
          <a:prstGeom prst="borderCallout1">
            <a:avLst>
              <a:gd name="adj1" fmla="val 18750"/>
              <a:gd name="adj2" fmla="val -8333"/>
              <a:gd name="adj3" fmla="val 169953"/>
              <a:gd name="adj4" fmla="val 51953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égende encadrée 1 30"/>
          <p:cNvSpPr/>
          <p:nvPr/>
        </p:nvSpPr>
        <p:spPr>
          <a:xfrm>
            <a:off x="2914560" y="2308320"/>
            <a:ext cx="1614600" cy="696960"/>
          </a:xfrm>
          <a:prstGeom prst="borderCallout1">
            <a:avLst>
              <a:gd name="adj1" fmla="val 18750"/>
              <a:gd name="adj2" fmla="val -8333"/>
              <a:gd name="adj3" fmla="val 148703"/>
              <a:gd name="adj4" fmla="val 2323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mande en 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"/>
          <p:cNvPicPr/>
          <p:nvPr/>
        </p:nvPicPr>
        <p:blipFill>
          <a:blip r:embed="rId1"/>
          <a:srcRect l="0" t="0" r="0" b="5806"/>
          <a:stretch/>
        </p:blipFill>
        <p:spPr>
          <a:xfrm>
            <a:off x="290520" y="1292400"/>
            <a:ext cx="7327800" cy="552276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9"/>
          <p:cNvSpPr/>
          <p:nvPr/>
        </p:nvSpPr>
        <p:spPr>
          <a:xfrm>
            <a:off x="262080" y="1335240"/>
            <a:ext cx="7329240" cy="552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635120" y="545760"/>
            <a:ext cx="865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Métho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Espace réservé du contenu 2"/>
          <p:cNvSpPr/>
          <p:nvPr/>
        </p:nvSpPr>
        <p:spPr>
          <a:xfrm>
            <a:off x="1652760" y="1077840"/>
            <a:ext cx="5851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éveloppement d’un outil de calc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oneTexte 15"/>
          <p:cNvSpPr/>
          <p:nvPr/>
        </p:nvSpPr>
        <p:spPr>
          <a:xfrm>
            <a:off x="304920" y="4309920"/>
            <a:ext cx="7227720" cy="1922760"/>
          </a:xfrm>
          <a:prstGeom prst="rect">
            <a:avLst/>
          </a:prstGeom>
          <a:solidFill>
            <a:srgbClr val="ffffff">
              <a:alpha val="57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b5395"/>
                </a:solidFill>
                <a:latin typeface="Gill Sans MT"/>
              </a:rPr>
              <a:t>RESULTATS (pour la période d’arro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16"/>
          <p:cNvSpPr/>
          <p:nvPr/>
        </p:nvSpPr>
        <p:spPr>
          <a:xfrm>
            <a:off x="369720" y="4890960"/>
            <a:ext cx="3319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b5395"/>
                </a:solidFill>
                <a:latin typeface="Gill Sans MT"/>
              </a:rPr>
              <a:t>Taux de satisfaction de la de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3178080" y="4950000"/>
            <a:ext cx="1616040" cy="420480"/>
          </a:xfrm>
          <a:prstGeom prst="rect">
            <a:avLst/>
          </a:prstGeom>
          <a:ln w="0">
            <a:noFill/>
          </a:ln>
        </p:spPr>
      </p:pic>
      <p:sp>
        <p:nvSpPr>
          <p:cNvPr id="295" name="ZoneTexte 21"/>
          <p:cNvSpPr/>
          <p:nvPr/>
        </p:nvSpPr>
        <p:spPr>
          <a:xfrm>
            <a:off x="363600" y="5565600"/>
            <a:ext cx="2495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b5395"/>
                </a:solidFill>
                <a:latin typeface="Gill Sans MT"/>
              </a:rPr>
              <a:t>Taux de rejet au rés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3"/>
          <a:stretch/>
        </p:blipFill>
        <p:spPr>
          <a:xfrm>
            <a:off x="3222720" y="5500800"/>
            <a:ext cx="1249200" cy="522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4594320" y="4768920"/>
            <a:ext cx="4132080" cy="7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Gill Sans MT"/>
              </a:rPr>
              <a:t>Volume d’eau pluviale uti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Demande en 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527720" y="5505480"/>
            <a:ext cx="4243320" cy="6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Gill Sans MT"/>
              </a:rPr>
              <a:t>Volume d’eau pluviale reje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 MT"/>
              </a:rPr>
              <a:t>Volume d’eau pluviale coll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635120" y="545760"/>
            <a:ext cx="6981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Résulta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Gill Sans MT"/>
              </a:rPr>
              <a:t>A) à l’échelle du bâtiment </a:t>
            </a: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(Toit de 100 m</a:t>
            </a:r>
            <a:r>
              <a:rPr b="1" lang="en-GB" sz="2600" spc="-1" strike="noStrike" baseline="30000">
                <a:solidFill>
                  <a:srgbClr val="0b5395"/>
                </a:solidFill>
                <a:latin typeface="Gill Sans MT"/>
              </a:rPr>
              <a:t>2</a:t>
            </a: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Espace réservé du contenu 2"/>
          <p:cNvSpPr/>
          <p:nvPr/>
        </p:nvSpPr>
        <p:spPr>
          <a:xfrm>
            <a:off x="1392120" y="2354400"/>
            <a:ext cx="585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363680" y="1755720"/>
            <a:ext cx="3701880" cy="409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5896080" y="3106800"/>
            <a:ext cx="2394000" cy="14796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3"/>
          <p:cNvSpPr/>
          <p:nvPr/>
        </p:nvSpPr>
        <p:spPr>
          <a:xfrm>
            <a:off x="5413320" y="2144880"/>
            <a:ext cx="3352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atio des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oiture/Ja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719360" y="1673280"/>
            <a:ext cx="335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193b"/>
                </a:solidFill>
                <a:latin typeface="Gill Sans MT"/>
              </a:rPr>
              <a:t>Taux de satisfaction de la 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9193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635120" y="545760"/>
            <a:ext cx="70516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Résulta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Gill Sans MT"/>
              </a:rPr>
              <a:t>A) à l’échelle du bâtiment </a:t>
            </a: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(toit de 100 m</a:t>
            </a:r>
            <a:r>
              <a:rPr b="1" lang="en-GB" sz="2600" spc="-1" strike="noStrike" baseline="30000">
                <a:solidFill>
                  <a:srgbClr val="0b5395"/>
                </a:solidFill>
                <a:latin typeface="Gill Sans MT"/>
              </a:rPr>
              <a:t>2</a:t>
            </a: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Espace réservé du contenu 2"/>
          <p:cNvSpPr/>
          <p:nvPr/>
        </p:nvSpPr>
        <p:spPr>
          <a:xfrm>
            <a:off x="1392120" y="2354400"/>
            <a:ext cx="585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5896080" y="3106800"/>
            <a:ext cx="2394000" cy="14796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"/>
          <p:cNvSpPr/>
          <p:nvPr/>
        </p:nvSpPr>
        <p:spPr>
          <a:xfrm>
            <a:off x="5224320" y="2333520"/>
            <a:ext cx="3353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 des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iture/Jardin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871560" y="1800360"/>
            <a:ext cx="4228920" cy="38890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911160" y="1673280"/>
            <a:ext cx="41529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9193b"/>
                </a:solidFill>
                <a:latin typeface="Gill Sans MT"/>
              </a:rPr>
              <a:t>Taux de rejet au ré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9193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1c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635120" y="545760"/>
            <a:ext cx="865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Résulta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171720" indent="-17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Gill Sans MT"/>
              </a:rPr>
              <a:t>A) à l’échelle du bâtiment </a:t>
            </a: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(toit = 100 m</a:t>
            </a:r>
            <a:r>
              <a:rPr b="1" lang="en-GB" sz="2600" spc="-1" strike="noStrike" baseline="30000">
                <a:solidFill>
                  <a:srgbClr val="0b5395"/>
                </a:solidFill>
                <a:latin typeface="Gill Sans MT"/>
              </a:rPr>
              <a:t>2</a:t>
            </a:r>
            <a:r>
              <a:rPr b="1" lang="en-GB" sz="2600" spc="-1" strike="noStrike">
                <a:solidFill>
                  <a:srgbClr val="0b5395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Espace réservé du contenu 2"/>
          <p:cNvSpPr/>
          <p:nvPr/>
        </p:nvSpPr>
        <p:spPr>
          <a:xfrm>
            <a:off x="1392120" y="2354400"/>
            <a:ext cx="585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lnSpc>
                <a:spcPts val="2098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5643720"/>
            <a:ext cx="27147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tio des su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iture/Jard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318960" y="1654200"/>
            <a:ext cx="4230720" cy="38908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384120" y="1484280"/>
            <a:ext cx="43182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9193b"/>
                </a:solidFill>
                <a:latin typeface="Gill Sans MT"/>
              </a:rPr>
              <a:t>Taux de rejet (période d’arro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193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2398680" y="5718240"/>
            <a:ext cx="2392560" cy="465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4"/>
          <a:stretch/>
        </p:blipFill>
        <p:spPr>
          <a:xfrm>
            <a:off x="4284720" y="5718240"/>
            <a:ext cx="2641680" cy="465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5"/>
          <a:srcRect l="0" t="0" r="0" b="13607"/>
          <a:stretch/>
        </p:blipFill>
        <p:spPr>
          <a:xfrm>
            <a:off x="6477120" y="5718240"/>
            <a:ext cx="2420640" cy="46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6"/>
          <a:stretch/>
        </p:blipFill>
        <p:spPr>
          <a:xfrm>
            <a:off x="4645080" y="1625760"/>
            <a:ext cx="4332240" cy="39193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4818240" y="1492200"/>
            <a:ext cx="43178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b9193b"/>
                </a:solidFill>
                <a:latin typeface="Gill Sans MT"/>
              </a:rPr>
              <a:t>Taux de rejet (à l’échelle de l’anné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9193b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210960" y="6316560"/>
            <a:ext cx="43182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9193b"/>
                </a:solidFill>
                <a:latin typeface="Gill Sans MT"/>
              </a:rPr>
              <a:t>Cuve de 5-m</a:t>
            </a:r>
            <a:r>
              <a:rPr b="0" lang="en-GB" sz="1800" spc="-1" strike="noStrike" baseline="30000">
                <a:solidFill>
                  <a:srgbClr val="b9193b"/>
                </a:solidFill>
                <a:latin typeface="Gill Sans MT"/>
              </a:rPr>
              <a:t>3</a:t>
            </a:r>
            <a:r>
              <a:rPr b="0" lang="en-GB" sz="1800" spc="-1" strike="noStrike">
                <a:solidFill>
                  <a:srgbClr val="b9193b"/>
                </a:solidFill>
                <a:latin typeface="Gill Sans MT"/>
              </a:rPr>
              <a:t> : pleine 28 % du tem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614840" y="6321600"/>
            <a:ext cx="43182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9193b"/>
                </a:solidFill>
                <a:latin typeface="Arial"/>
              </a:rPr>
              <a:t>Cuve de 5-m3 : pleine 55 % du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2:22:49Z</dcterms:created>
  <dc:creator>Utilisateur_SIG</dc:creator>
  <dc:description/>
  <dc:language>en-US</dc:language>
  <cp:lastModifiedBy>ROUX Christian</cp:lastModifiedBy>
  <dcterms:modified xsi:type="dcterms:W3CDTF">2008-09-16T17:20:31Z</dcterms:modified>
  <cp:revision>348</cp:revision>
  <dc:subject/>
  <dc:title>Diapositive 1</dc:title>
</cp:coreProperties>
</file>