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E46-17F7-4D3A-ABF5-CD2CAFAD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B96-4812-4789-843F-2B7C012D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9EC-631A-4075-96C0-D56BDBE3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0FA-6E50-4A79-92C0-F88B8DC0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963-1A75-476A-BD31-733F66E2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9D8-AF78-4EEE-96D9-B070222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E7F-E57D-4CAB-8738-65B96E2A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DFA-488F-4421-A494-7B8DE408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451-CC0B-42BD-8156-4484D078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955-A683-4144-AEEE-70E55F9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849-A8BA-4838-A50C-0034E1B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164-9CA1-452D-A6C1-586A6F4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59F-6A22-487D-A8D6-DEF586426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00" y="719280"/>
            <a:ext cx="8890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Réun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SHF – AST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7 février 200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salle n° 1, 1er ét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WA / IAHR Joint Committee on Urban 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 membres élus pour 3 an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2 mandats maxi, sauf chairman: 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ion par quart (environ) chaque 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Newsletter /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ail list : +1200 destina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 des plus actifs et des plus organisés de l’I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iwahq.org/templates/ld_templates/layout_633184.aspx?ObjectId=6339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mbres en Février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 Almeida (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.L. Bertrand-Krajewski (Fr, Ch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 Butler (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Campisano (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Deletic (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. Furumai (J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. Lee (H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.S. Mikkelsen (D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. Nascimento (B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 Nor (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 Strecker (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Viklander (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. Marsalek (Ca, Sec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8 Groupes de trav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on Urban rainfall (G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on Real Time Control of Urban Drainage Systems (RTCU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on Source Control for Stormwater Management (SOCOMA), now in the process of merging with the WSUD Working 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on Sewer Systems and Processes (SS&amp;PW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Working Group on Data and Models (IWG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on Urban Drainage in Cold Climate (UDCCW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on Water Sensitive Urban Design (WSUD), now in the process of merging with SOC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Outreach Working Group (GOW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ité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C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UD (International Conference on Urban Drainage) tous les 3 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tien à Novatech, Diffusion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s aux congrès IWA + IA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° spéciaux 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ssaire international d’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égie IWA, IAHR, et autres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ité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tous les WG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érences SPN, UDM, SOM, Urban Rain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éminaires, workshops (par ex. avt Novat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icles de synthèse, n° de journ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vrages (RTC, Solids in Sewer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27:48Z</dcterms:created>
  <dc:creator>anonyme</dc:creator>
  <dc:description/>
  <dc:language>en-US</dc:language>
  <cp:lastModifiedBy>anonyme</cp:lastModifiedBy>
  <dcterms:modified xsi:type="dcterms:W3CDTF">2007-02-07T08:57:05Z</dcterms:modified>
  <cp:revision>3</cp:revision>
  <dc:subject/>
  <dc:title>Diapositive 1</dc:title>
</cp:coreProperties>
</file>